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E62-6545-42DC-A9C5-B158AF9F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F8B-077E-4F0B-A8B8-FEAF3604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575-8193-4DC6-91DF-7A72D74B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D86-4491-4D5B-AE2F-A325D22E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DFA-399B-459C-827D-CB902E1F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5C1-9529-4D97-ABAD-5C971495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C3F-C1D8-4E9E-93DA-4F0AA06C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958-30BD-4B06-ADF7-C436371A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B9E-9A88-4657-9A2B-670CA86B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CC7-5EC0-42F4-B008-49D56791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BB7-FE60-428D-A52B-8B968291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CDB-364A-4121-837F-B130C302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CF8F-0A2E-41E9-8ACD-5815CF7C2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HYBRID DESIGN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86600" cy="4395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708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4440" y="914400"/>
            <a:ext cx="86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Hybrid Designs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combine the elemen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t least two basic design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extend the strategy of one basic des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hrough repet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5120" y="4191120"/>
            <a:ext cx="72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popular hybrid designs are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case-cohort study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nd the</a:t>
            </a: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nested case-control study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038480"/>
            <a:ext cx="7772400" cy="213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2360" y="1143000"/>
            <a:ext cx="801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1f1d"/>
                </a:solidFill>
                <a:latin typeface="Times New Roman"/>
              </a:rPr>
              <a:t>Incomplete Desig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are studies in which information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missing on one or more relevant fac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6080" y="3352680"/>
            <a:ext cx="799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Two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a800"/>
                </a:solidFill>
                <a:latin typeface="Times New Roman"/>
              </a:rPr>
              <a:t>Ecologic 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Proportional (Morbidity or Mortality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b01bf5"/>
                </a:solidFill>
                <a:latin typeface="Times New Roman"/>
              </a:rPr>
              <a:t>De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352680"/>
            <a:ext cx="7924680" cy="2438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392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223524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315200" cy="382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1800" y="4876920"/>
            <a:ext cx="51055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153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70880" y="2271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iwan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2:26Z</dcterms:modified>
  <cp:revision>111</cp:revision>
  <dc:subject/>
  <dc:title>The Art in the State of the Art</dc:title>
</cp:coreProperties>
</file>